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move the slide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1EBD9-F1B9-4D7B-B3DC-400F7BD67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2C0B6-0C24-4A74-947A-0E615824FD96}" type="slidenum">
              <a:rPr b="0" lang="en-US" sz="1200" spc="-1" strike="noStrike">
                <a:solidFill>
                  <a:srgbClr val="3c3c3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E1D3E-EEA3-46E0-AA8B-D482665EB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5D9DB-F806-4B42-B893-90B568548EE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E2ECC-EA7F-4210-B02C-EDA83E4E17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915A4-8C73-42A8-8D1C-D4C3A52834B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817DE-1079-4434-9FD8-0F0BA5CF32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18955-6BB1-49FB-90C0-170916169EE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329FC-7BD1-4335-9F13-86D731A4444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5EEF4-28C3-4C0F-99E5-5BDD8120920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6018F-2BEA-4825-A470-5954B2C8E67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BC153-2B78-438D-A6EC-3EB752AC511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E6907-FDD4-4B10-AADA-1E82D5BA6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2D5FB-4493-44B5-9B32-3ED8FCF6962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980A7-83C5-4CB3-8819-285367F598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FB47D-43FD-44B4-87A3-515016E3EAE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20AEF-519C-4565-AF28-335EE7B746C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03D05-694D-4DD8-A2C8-3756D1E0D17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E71C2-91DD-42A4-8610-B20BFE956B3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D88A0-77D7-4A8C-83C6-8D23429512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E21B7-E12C-4310-9EAD-B249322D9D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28492-D548-41C1-BDF6-BE4F496773F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7E8A3-6673-4906-8511-2F6F106A04D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B0BE9-83E8-4FE9-854C-3A8F1D2C9B4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DEAA1-1225-444B-B8A3-5E7DE852664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0DA9C-F7BF-406B-ACCE-BD41909E901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1118-1F6F-405A-AE58-2789459D40D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D6EF-F37D-42EC-973A-152D9A402F3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82B7-FCAA-4B3B-8E71-5518D8A1A8F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73A0-3FDA-41F6-9AEB-08E958BA365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9B01-885B-40D9-9CDE-EFABA78352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C549-7CA1-42B2-964B-2FCC221E202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1242-9883-4F21-9F10-83E4C535AD7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979E-87DB-4058-89C2-B8CDD16591D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FAA9-6CBF-40EB-B6FF-CA6F92D69AF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D270-B5D5-40E2-BBFB-9E390946651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79A7-62EE-47DE-BBD6-D3796EAAEA8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B431-5C99-42AD-8F38-1E8245CDD52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735BA8-9A41-4DA3-B9B9-063D96F348B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49076-6FDA-4375-883E-C1C2B8D1044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6A592-C0C7-4C43-B683-671C1383AF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2D3F7-50C2-4236-A7E8-D66801B1CA2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1E9E8A-21CF-4AC2-A8F4-768B35BE5DE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598875-732F-4089-AC91-503BED18478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1D62A-4369-4213-A87E-5DAC7D13B47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BEC8D-9607-4EF8-A55E-DFA4922F746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ED750-B236-4F12-ABF5-53C9BD5D7F8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EEEF47-1988-445E-BD0E-9995D331D1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46B94B-A243-4B1B-A45B-41A64D2E148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B408E-397E-42EB-BD74-69465078EA4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E761C-63BF-46CA-9A99-CDB1DD9E82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233B1-8FCD-44C4-8E4A-FCB0566FF4A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59811-DFFD-4F9F-A624-3379504EB58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C4685-BB43-4917-BF41-6EB98509005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C17DE-29DD-4E99-9C0B-3331D7AEB7F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330EE-3A16-4F97-91F8-C332BA72E1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1EF60-10AC-40A7-8FE4-795AEA1F530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546AF-FD56-4703-B626-000535DDDFA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0B0AF-172F-4DC3-B95E-BAC6E84C49C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57E84-FE29-43ED-A582-859A993301C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CBB0E-28A4-4081-84A7-10D1BB182D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81163-E4EC-4B74-9877-553356D2F4B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E1E0-5FD9-4C2F-A61B-5E0387A608C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3079-124C-44E7-9DBF-56F6E0E8A6D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CABE-0E63-47CA-8C3A-42330396828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DE6C-BF58-4A0B-BDCB-B8FC9A143F5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5B1A-5E1E-48F7-AB17-4B1A50BE814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6B36-FBED-4EBA-A65F-E636E2E5716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179C-4E2D-449F-897A-4F9E9522662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456A-0C67-4714-9E9B-FD1BC3D9663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D259-726B-419E-A1BC-60424ED1CB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68B0-027A-4603-A2C7-489EAA15B40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1556-C7A2-438B-8110-7F406EE1A35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5EA47-9B07-49BE-A931-16C09FFE378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498F-0CD5-4A13-8917-50ECAF7FE0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1EA3-E5E4-4723-AF4E-77DD82EA11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E7C6-0F6D-4E44-92CB-3BF90CB36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8A5D-65B7-4C3E-A467-D0AAA09E11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4C69-A123-464F-8E1A-DF429F138A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D34C-5273-4A33-9B29-F7B9B640C3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E5B3-CEB2-4715-B8EB-0AF1C7FDC9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CA7D-C164-4E4D-9B50-A968965249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B9C6-50F6-474E-B3AA-A5F30ED9F3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EE2F-C112-488B-90EC-3E8EB2D4FF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51FC-7586-4194-A2D6-75B71B924B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36A9-F5DE-49B9-8BC9-A5C6BE947D1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7526-67FF-45E6-94FF-A9E6EC1370E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E037-B7FE-4E9D-9540-B86D304A2D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F805-8319-49D6-81E9-AEDFF85E25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8093-4C5E-42D2-9980-D5ED8AC6A7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A07B-2FF1-45E3-BE86-22F9663BD7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61B1B-7746-4ACF-A30D-1E72F305D3E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76E9-4979-4D17-B9B4-9C990A331F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3C2D-A4CB-4FDA-A1CC-48BC53AAD9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EE954-F769-4D15-97F8-C45235F6C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6D1C-48EE-45F7-97C2-CB79B5FD21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8AD6-5AB6-455E-B8E0-012D53F07C1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9C1E-9EC9-4DD0-BBE1-9677643B28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696-7942-4E7B-A905-688548E2D9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613-15BC-4F0B-A05C-09636374B6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9FF-152E-40C9-AD52-5AA74689F44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CCD-D806-4B9F-970B-06518FF9C0A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856-65A1-4F85-A7C1-1603C7E68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5D7-0C29-4B25-BC77-961553E452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D8A-0FEC-461D-9154-F313356F51D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989-46BA-4007-B1DD-A9CCAB459F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4DD-F36D-41CD-9F78-DD47D44BD0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527-ED50-435B-9D2D-A685F277A60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C0E-263F-46D2-99C8-23C5D6A13A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F96-854A-4BDF-96DE-510E188188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5614920" y="0"/>
            <a:ext cx="3529080" cy="6858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7172280" y="5878440"/>
            <a:ext cx="1971720" cy="9874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5"/>
          <p:cNvSpPr/>
          <p:nvPr/>
        </p:nvSpPr>
        <p:spPr>
          <a:xfrm>
            <a:off x="787320" y="6334200"/>
            <a:ext cx="52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7786e"/>
                </a:solidFill>
                <a:latin typeface="Arial"/>
              </a:rPr>
              <a:t>Inter-American Development Bank | Climate Change and Sustainability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4"/>
          </p:nvPr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7786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5E299-E51B-4761-B1B2-63D163515AA6}" type="slidenum">
              <a:rPr b="0" lang="en-US" sz="1400" spc="-1" strike="noStrike">
                <a:solidFill>
                  <a:srgbClr val="8778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5" descr=""/>
          <p:cNvPicPr/>
          <p:nvPr/>
        </p:nvPicPr>
        <p:blipFill>
          <a:blip r:embed="rId2"/>
          <a:stretch/>
        </p:blipFill>
        <p:spPr>
          <a:xfrm>
            <a:off x="5614920" y="0"/>
            <a:ext cx="352908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"/>
          <p:cNvPicPr/>
          <p:nvPr/>
        </p:nvPicPr>
        <p:blipFill>
          <a:blip r:embed="rId3"/>
          <a:stretch/>
        </p:blipFill>
        <p:spPr>
          <a:xfrm>
            <a:off x="7172280" y="5878440"/>
            <a:ext cx="1971720" cy="9874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5"/>
          <p:cNvSpPr/>
          <p:nvPr/>
        </p:nvSpPr>
        <p:spPr>
          <a:xfrm>
            <a:off x="787320" y="6334200"/>
            <a:ext cx="52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7786e"/>
                </a:solidFill>
                <a:latin typeface="Arial"/>
              </a:rPr>
              <a:t>Inter-American Development Bank | Climate Change and Sustainability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5"/>
          </p:nvPr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7786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015B6-3A84-474F-A9BA-3FEE4349FE1B}" type="slidenum">
              <a:rPr b="0" lang="en-US" sz="1400" spc="-1" strike="noStrike">
                <a:solidFill>
                  <a:srgbClr val="8778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15" descr=""/>
          <p:cNvPicPr/>
          <p:nvPr/>
        </p:nvPicPr>
        <p:blipFill>
          <a:blip r:embed="rId2"/>
          <a:stretch/>
        </p:blipFill>
        <p:spPr>
          <a:xfrm>
            <a:off x="5614920" y="0"/>
            <a:ext cx="352908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3"/>
          <a:stretch/>
        </p:blipFill>
        <p:spPr>
          <a:xfrm>
            <a:off x="7172280" y="5878440"/>
            <a:ext cx="1971720" cy="987480"/>
          </a:xfrm>
          <a:prstGeom prst="rect">
            <a:avLst/>
          </a:prstGeom>
          <a:ln w="0">
            <a:noFill/>
          </a:ln>
        </p:spPr>
      </p:pic>
      <p:sp>
        <p:nvSpPr>
          <p:cNvPr id="492" name="TextBox 5"/>
          <p:cNvSpPr/>
          <p:nvPr/>
        </p:nvSpPr>
        <p:spPr>
          <a:xfrm>
            <a:off x="787320" y="6334200"/>
            <a:ext cx="52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7786e"/>
                </a:solidFill>
                <a:latin typeface="Arial"/>
              </a:rPr>
              <a:t>Inter-American Development Bank | Climate Change and Sustainability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6"/>
          </p:nvPr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7786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A99C9-BD88-4188-BE49-04F7B7623941}" type="slidenum">
              <a:rPr b="0" lang="en-US" sz="1400" spc="-1" strike="noStrike">
                <a:solidFill>
                  <a:srgbClr val="8778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15" descr=""/>
          <p:cNvPicPr/>
          <p:nvPr/>
        </p:nvPicPr>
        <p:blipFill>
          <a:blip r:embed="rId2"/>
          <a:stretch/>
        </p:blipFill>
        <p:spPr>
          <a:xfrm>
            <a:off x="5614920" y="0"/>
            <a:ext cx="3529080" cy="685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3"/>
          <a:stretch/>
        </p:blipFill>
        <p:spPr>
          <a:xfrm>
            <a:off x="7202520" y="5900760"/>
            <a:ext cx="1941480" cy="957240"/>
          </a:xfrm>
          <a:prstGeom prst="rect">
            <a:avLst/>
          </a:prstGeom>
          <a:ln w="0">
            <a:noFill/>
          </a:ln>
        </p:spPr>
      </p:pic>
      <p:sp>
        <p:nvSpPr>
          <p:cNvPr id="534" name="TextBox 5"/>
          <p:cNvSpPr/>
          <p:nvPr/>
        </p:nvSpPr>
        <p:spPr>
          <a:xfrm>
            <a:off x="787320" y="6334200"/>
            <a:ext cx="52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7786e"/>
                </a:solidFill>
                <a:latin typeface="Arial"/>
              </a:rPr>
              <a:t>Inter-American Development Bank | Climate Change and Sustainability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7"/>
          </p:nvPr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7786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18FD1-D6D1-4043-90E9-F12DAE0E04D5}" type="slidenum">
              <a:rPr b="0" lang="en-US" sz="1400" spc="-1" strike="noStrike">
                <a:solidFill>
                  <a:srgbClr val="8778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"/>
          <p:cNvPicPr/>
          <p:nvPr/>
        </p:nvPicPr>
        <p:blipFill>
          <a:blip r:embed="rId2"/>
          <a:stretch/>
        </p:blipFill>
        <p:spPr>
          <a:xfrm>
            <a:off x="7202520" y="5900760"/>
            <a:ext cx="1941480" cy="95724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"/>
          <p:cNvSpPr/>
          <p:nvPr/>
        </p:nvSpPr>
        <p:spPr>
          <a:xfrm>
            <a:off x="787320" y="6334200"/>
            <a:ext cx="52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7786e"/>
                </a:solidFill>
                <a:latin typeface="Arial"/>
              </a:rPr>
              <a:t>Inter-American Development Bank | Climate Change and Sustainability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8"/>
          </p:nvPr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7786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A715E-737B-4A70-959A-E5080F4A9C98}" type="slidenum">
              <a:rPr b="0" lang="en-US" sz="1400" spc="-1" strike="noStrike">
                <a:solidFill>
                  <a:srgbClr val="8778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7202520" y="5900760"/>
            <a:ext cx="1941480" cy="9572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4"/>
          <p:cNvSpPr/>
          <p:nvPr/>
        </p:nvSpPr>
        <p:spPr>
          <a:xfrm>
            <a:off x="787320" y="6334200"/>
            <a:ext cx="52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7786e"/>
                </a:solidFill>
                <a:latin typeface="Arial"/>
              </a:rPr>
              <a:t>Inter-American Development Bank | Climate Change and Sustainability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9"/>
          </p:nvPr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7786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6D8F5-EC34-4D38-BAB2-8C3E9214791E}" type="slidenum">
              <a:rPr b="0" lang="en-US" sz="1400" spc="-1" strike="noStrike">
                <a:solidFill>
                  <a:srgbClr val="8778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"/>
          <p:cNvPicPr/>
          <p:nvPr/>
        </p:nvPicPr>
        <p:blipFill>
          <a:blip r:embed="rId2"/>
          <a:stretch/>
        </p:blipFill>
        <p:spPr>
          <a:xfrm>
            <a:off x="-15840" y="-31680"/>
            <a:ext cx="9291600" cy="6968880"/>
          </a:xfrm>
          <a:prstGeom prst="rect">
            <a:avLst/>
          </a:prstGeom>
          <a:ln w="0">
            <a:noFill/>
          </a:ln>
        </p:spPr>
      </p:pic>
      <p:sp>
        <p:nvSpPr>
          <p:cNvPr id="657" name="TextBox 4"/>
          <p:cNvSpPr/>
          <p:nvPr/>
        </p:nvSpPr>
        <p:spPr>
          <a:xfrm>
            <a:off x="0" y="5526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talk about climate change and sustainability</a:t>
            </a: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9d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99d6"/>
                </a:solidFill>
                <a:latin typeface="Arial"/>
              </a:rPr>
              <a:t>@BIDcambioclim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s.iadb.org/</a:t>
            </a:r>
            <a:r>
              <a:rPr b="1" lang="en-US" sz="1800" spc="-1" strike="noStrike">
                <a:solidFill>
                  <a:srgbClr val="fab428"/>
                </a:solidFill>
                <a:latin typeface="Arial"/>
              </a:rPr>
              <a:t>clima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658" name="Picture 5" descr=""/>
          <p:cNvPicPr/>
          <p:nvPr/>
        </p:nvPicPr>
        <p:blipFill>
          <a:blip r:embed="rId3"/>
          <a:stretch/>
        </p:blipFill>
        <p:spPr>
          <a:xfrm>
            <a:off x="3273480" y="2722680"/>
            <a:ext cx="2832120" cy="1411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" descr="C:\Users\Ceciliare\Desktop\twitter.png"/>
          <p:cNvPicPr/>
          <p:nvPr/>
        </p:nvPicPr>
        <p:blipFill>
          <a:blip r:embed="rId4"/>
          <a:stretch/>
        </p:blipFill>
        <p:spPr>
          <a:xfrm>
            <a:off x="1228680" y="5961240"/>
            <a:ext cx="525600" cy="5270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9" name="TextBox 4"/>
          <p:cNvSpPr/>
          <p:nvPr/>
        </p:nvSpPr>
        <p:spPr>
          <a:xfrm>
            <a:off x="299880" y="3411360"/>
            <a:ext cx="9144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talk about climate change </a:t>
            </a: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sustainability</a:t>
            </a: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s.iadb.org/</a:t>
            </a:r>
            <a:r>
              <a:rPr b="1" lang="en-US" sz="1600" spc="-1" strike="noStrike">
                <a:solidFill>
                  <a:srgbClr val="fab428"/>
                </a:solidFill>
                <a:latin typeface="Arial"/>
              </a:rPr>
              <a:t>climat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16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itter </a:t>
            </a:r>
            <a:r>
              <a:rPr b="1" lang="en-US" sz="1600" spc="-1" strike="noStrike">
                <a:solidFill>
                  <a:srgbClr val="0099d6"/>
                </a:solidFill>
                <a:latin typeface="Arial"/>
              </a:rPr>
              <a:t>@BIDcambioclima </a:t>
            </a:r>
            <a:endParaRPr b="0" lang="en-US" sz="16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3"/>
          <a:stretch/>
        </p:blipFill>
        <p:spPr>
          <a:xfrm>
            <a:off x="7132680" y="5818320"/>
            <a:ext cx="2020680" cy="103968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Users\Ceciliare\Desktop\New folder\coverfront.png"/>
          <p:cNvPicPr/>
          <p:nvPr/>
        </p:nvPicPr>
        <p:blipFill>
          <a:blip r:embed="rId2"/>
          <a:stretch/>
        </p:blipFill>
        <p:spPr>
          <a:xfrm>
            <a:off x="-58680" y="0"/>
            <a:ext cx="9202680" cy="6902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Users\Ceciliare\Desktop\New folder\onekid.png"/>
          <p:cNvPicPr/>
          <p:nvPr/>
        </p:nvPicPr>
        <p:blipFill>
          <a:blip r:embed="rId3"/>
          <a:stretch/>
        </p:blipFill>
        <p:spPr>
          <a:xfrm>
            <a:off x="-31680" y="3768840"/>
            <a:ext cx="2292120" cy="3089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"/>
          <p:cNvPicPr/>
          <p:nvPr/>
        </p:nvPicPr>
        <p:blipFill>
          <a:blip r:embed="rId4"/>
          <a:stretch/>
        </p:blipFill>
        <p:spPr>
          <a:xfrm>
            <a:off x="7132680" y="5818320"/>
            <a:ext cx="2020680" cy="103968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5505480" y="4689360"/>
            <a:ext cx="340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r-American Development Bank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frastructure and Environment Sector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mate Change and Sustainability Division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Ceciliare\Desktop\New folder\coverfront.png"/>
          <p:cNvPicPr/>
          <p:nvPr/>
        </p:nvPicPr>
        <p:blipFill>
          <a:blip r:embed="rId2"/>
          <a:stretch/>
        </p:blipFill>
        <p:spPr>
          <a:xfrm>
            <a:off x="-58680" y="0"/>
            <a:ext cx="9202680" cy="690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7132680" y="5818320"/>
            <a:ext cx="2020680" cy="1039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5505480" y="4689360"/>
            <a:ext cx="340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r-American Development Bank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mate Change and Sustainability Division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5" descr=""/>
          <p:cNvPicPr/>
          <p:nvPr/>
        </p:nvPicPr>
        <p:blipFill>
          <a:blip r:embed="rId2"/>
          <a:stretch/>
        </p:blipFill>
        <p:spPr>
          <a:xfrm>
            <a:off x="5614920" y="0"/>
            <a:ext cx="35290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7172280" y="5878440"/>
            <a:ext cx="1971720" cy="9874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787320" y="6334200"/>
            <a:ext cx="52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7786e"/>
                </a:solidFill>
                <a:latin typeface="Arial"/>
              </a:rPr>
              <a:t>Inter-American Development Bank | Climate Change and Sustainability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"/>
          </p:nvPr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7786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84D6A-BF62-4031-A30A-AB375B1D1598}" type="slidenum">
              <a:rPr b="0" lang="en-US" sz="1400" spc="-1" strike="noStrike">
                <a:solidFill>
                  <a:srgbClr val="8778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7172280" y="5878440"/>
            <a:ext cx="1971720" cy="987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5614920" y="0"/>
            <a:ext cx="352908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7172280" y="5878440"/>
            <a:ext cx="1971720" cy="9874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787320" y="6334200"/>
            <a:ext cx="52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7786e"/>
                </a:solidFill>
                <a:latin typeface="Arial"/>
              </a:rPr>
              <a:t>Inter-American Development Bank | Climate Change and Sustainability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"/>
          </p:nvPr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7786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CF181-1DCB-41DC-9381-FB4C76A5E7DD}" type="slidenum">
              <a:rPr b="0" lang="en-US" sz="1400" spc="-1" strike="noStrike">
                <a:solidFill>
                  <a:srgbClr val="8778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3"/>
          <a:stretch/>
        </p:blipFill>
        <p:spPr>
          <a:xfrm>
            <a:off x="7172280" y="5878440"/>
            <a:ext cx="1971720" cy="987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5614920" y="0"/>
            <a:ext cx="352908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7172280" y="5878440"/>
            <a:ext cx="1971720" cy="9874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5"/>
          <p:cNvSpPr/>
          <p:nvPr/>
        </p:nvSpPr>
        <p:spPr>
          <a:xfrm>
            <a:off x="787320" y="6334200"/>
            <a:ext cx="52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7786e"/>
                </a:solidFill>
                <a:latin typeface="Arial"/>
              </a:rPr>
              <a:t>Inter-American Development Bank | Climate Change and Sustainability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3"/>
          </p:nvPr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7786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DC5D7-8CCB-47AB-81D2-DB2221983ED2}" type="slidenum">
              <a:rPr b="0" lang="en-US" sz="1400" spc="-1" strike="noStrike">
                <a:solidFill>
                  <a:srgbClr val="8778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3"/>
          <a:stretch/>
        </p:blipFill>
        <p:spPr>
          <a:xfrm>
            <a:off x="7172280" y="5878440"/>
            <a:ext cx="1971720" cy="987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c3c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be27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b428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c3c3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c3c3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Filippob@iadb.org" TargetMode="External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5486400" y="4285800"/>
            <a:ext cx="2944800" cy="3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loria Visconti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47" name="Text Placeholder 7"/>
          <p:cNvSpPr/>
          <p:nvPr/>
        </p:nvSpPr>
        <p:spPr>
          <a:xfrm>
            <a:off x="5486400" y="5180040"/>
            <a:ext cx="294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17 enero 2018</a:t>
            </a:r>
            <a:endParaRPr b="0" lang="en-US" sz="16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550800" y="231840"/>
            <a:ext cx="60912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álogo Estructurado del Fondo Verde para el Clima con América Latina </a:t>
            </a:r>
            <a:endParaRPr b="0" lang="en-US" sz="2800" spc="-1" strike="noStrike">
              <a:solidFill>
                <a:srgbClr val="3c3c3c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3c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sión grupal 6: Cartera de Proyectos nacionales </a:t>
            </a:r>
            <a:r>
              <a:rPr b="0" lang="es-ES" sz="2000" spc="-1" strike="noStrike">
                <a:solidFill>
                  <a:srgbClr val="3c3c3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c3c3c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(Body)"/>
                <a:ea typeface="Arial"/>
              </a:rPr>
              <a:t>Experiencia del BID</a:t>
            </a:r>
            <a:endParaRPr b="0" lang="en-US" sz="24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Box 1"/>
          <p:cNvSpPr/>
          <p:nvPr/>
        </p:nvSpPr>
        <p:spPr>
          <a:xfrm>
            <a:off x="3813120" y="42530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¡Gra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782" name="TextBox 2"/>
          <p:cNvSpPr/>
          <p:nvPr/>
        </p:nvSpPr>
        <p:spPr>
          <a:xfrm>
            <a:off x="3408120" y="4776840"/>
            <a:ext cx="23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873c"/>
                </a:solidFill>
                <a:uFillTx/>
                <a:latin typeface="Calibri"/>
                <a:ea typeface="Arial"/>
                <a:hlinkClick r:id="rId1"/>
              </a:rPr>
              <a:t>gloriav@iadb.or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 Bold"/>
              </a:rPr>
              <a:t>Proyectos</a:t>
            </a:r>
            <a:r>
              <a:rPr b="0" lang="es-ES_tradnl" sz="3200" spc="-1" strike="noStrike">
                <a:solidFill>
                  <a:srgbClr val="3c3c3c"/>
                </a:solidFill>
                <a:latin typeface="Arial Bold"/>
              </a:rPr>
              <a:t> </a:t>
            </a:r>
            <a:r>
              <a:rPr b="0" lang="es-ES_tradnl" sz="3200" spc="-1" strike="noStrike">
                <a:solidFill>
                  <a:srgbClr val="0070c0"/>
                </a:solidFill>
                <a:latin typeface="Arial Bold"/>
              </a:rPr>
              <a:t>Aprobados por el Grupo BID (públicos)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32920" y="1251000"/>
            <a:ext cx="876132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3c3c"/>
                </a:solidFill>
                <a:latin typeface="Arial"/>
              </a:rPr>
              <a:t>Seguros para Inversiones Privadas en Eficiencia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434160" indent="-43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3c3c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3c3c3c"/>
                </a:solidFill>
                <a:latin typeface="Arial"/>
              </a:rPr>
              <a:t>Energética (EE) en SMEs en El Salvador 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lvl="1" marL="1140120" indent="-434160"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Total $41.7M, GCF $21.7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34160" indent="-434160"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3c3c"/>
                </a:solidFill>
                <a:latin typeface="Arial"/>
              </a:rPr>
              <a:t>Facilidad Energía Sostenible (Geotermia) en el 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434160" indent="-43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3c3c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3c3c3c"/>
                </a:solidFill>
                <a:latin typeface="Arial"/>
              </a:rPr>
              <a:t>Caribe Oriental en Dominica, Grenada, St. Kitts, 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434160" indent="-43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3c3c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3c3c3c"/>
                </a:solidFill>
                <a:latin typeface="Arial"/>
              </a:rPr>
              <a:t>San Lucia, San Vincent 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lvl="1" marL="1140120" indent="-434160"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Total $190.5M, GCF $80M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34160" indent="-434160"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3c3c"/>
                </a:solidFill>
                <a:latin typeface="Arial"/>
              </a:rPr>
              <a:t>Promoción de inversiones privadas en EE en el sector industrial de Paraguay </a:t>
            </a:r>
            <a:r>
              <a:rPr b="0" lang="es-ES_tradnl" sz="2800" spc="-1" strike="noStrike">
                <a:solidFill>
                  <a:srgbClr val="3c3c3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1140120" indent="-434160"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Total $43M, GCF: $23M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34160" indent="-434160"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3c3c"/>
                </a:solidFill>
                <a:latin typeface="Arial"/>
              </a:rPr>
              <a:t>Promoción de instrumentos de mitigación de riesgo y financiamiento para RE y EE en Argentina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lvl="1" marL="1140120" indent="-434160"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Total: $163.85, GCF: $103M</a:t>
            </a:r>
            <a:r>
              <a:rPr b="0" lang="es-ES_tradnl" sz="1600" spc="-1" strike="noStrike">
                <a:solidFill>
                  <a:srgbClr val="3c3c3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marL="434160" indent="-43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c3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434160" indent="-434160"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lvl="1" marL="1140120" indent="-434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434160" indent="-434160"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spcAft>
                <a:spcPts val="601"/>
              </a:spcAft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92AB8-F069-49D2-B83D-217B5AE66139}" type="slidenum">
              <a:rPr b="0" lang="en-US" sz="1400" spc="-1" strike="noStrike">
                <a:solidFill>
                  <a:srgbClr val="87786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752" name="Picture 6" descr=""/>
          <p:cNvPicPr/>
          <p:nvPr/>
        </p:nvPicPr>
        <p:blipFill>
          <a:blip r:embed="rId1"/>
          <a:stretch/>
        </p:blipFill>
        <p:spPr>
          <a:xfrm>
            <a:off x="7302600" y="2633760"/>
            <a:ext cx="1801800" cy="1108080"/>
          </a:xfrm>
          <a:prstGeom prst="rect">
            <a:avLst/>
          </a:prstGeom>
          <a:ln w="0">
            <a:noFill/>
          </a:ln>
        </p:spPr>
      </p:pic>
      <p:pic>
        <p:nvPicPr>
          <p:cNvPr id="753" name="Content Placeholder 4" descr=""/>
          <p:cNvPicPr/>
          <p:nvPr/>
        </p:nvPicPr>
        <p:blipFill>
          <a:blip r:embed="rId2"/>
          <a:stretch/>
        </p:blipFill>
        <p:spPr>
          <a:xfrm>
            <a:off x="7377120" y="1179360"/>
            <a:ext cx="165276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 Bold"/>
              </a:rPr>
              <a:t>Proyectos</a:t>
            </a:r>
            <a:r>
              <a:rPr b="0" lang="es-ES_tradnl" sz="3200" spc="-1" strike="noStrike">
                <a:solidFill>
                  <a:srgbClr val="3c3c3c"/>
                </a:solidFill>
                <a:latin typeface="Arial Bold"/>
              </a:rPr>
              <a:t> </a:t>
            </a:r>
            <a:r>
              <a:rPr b="0" lang="es-ES_tradnl" sz="3200" spc="-1" strike="noStrike">
                <a:solidFill>
                  <a:srgbClr val="0070c0"/>
                </a:solidFill>
                <a:latin typeface="Arial Bold"/>
              </a:rPr>
              <a:t>Aprobados por el Grupo BID (privados)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c3c3c"/>
                </a:solidFill>
                <a:latin typeface="Arial"/>
              </a:rPr>
              <a:t>Bonos Verdes para Eficiencia Energética </a:t>
            </a:r>
            <a:endParaRPr b="0" lang="en-US" sz="2600" spc="-1" strike="noStrike">
              <a:solidFill>
                <a:srgbClr val="3c3c3c"/>
              </a:solidFill>
              <a:latin typeface="Arial"/>
            </a:endParaRPr>
          </a:p>
          <a:p>
            <a:pPr lvl="1" marL="1200240" indent="-457200">
              <a:lnSpc>
                <a:spcPct val="80000"/>
              </a:lnSpc>
              <a:spcAft>
                <a:spcPts val="601"/>
              </a:spcAft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México, República Dominicana, Jamaica, Colombia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1200240" indent="-457200">
              <a:lnSpc>
                <a:spcPct val="80000"/>
              </a:lnSpc>
              <a:spcAft>
                <a:spcPts val="601"/>
              </a:spcAft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Total $334M, GCF $22M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Aft>
                <a:spcPts val="601"/>
              </a:spcAft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c3c3c"/>
                </a:solidFill>
                <a:latin typeface="Arial"/>
              </a:rPr>
              <a:t>Financiamiento a inversiones privadas en </a:t>
            </a:r>
            <a:endParaRPr b="0" lang="en-US" sz="26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3c3c3c"/>
                </a:solidFill>
                <a:latin typeface="Arial"/>
              </a:rPr>
              <a:t>Energías Renovables</a:t>
            </a:r>
            <a:endParaRPr b="0" lang="en-US" sz="2600" spc="-1" strike="noStrike">
              <a:solidFill>
                <a:srgbClr val="3c3c3c"/>
              </a:solidFill>
              <a:latin typeface="Arial"/>
            </a:endParaRPr>
          </a:p>
          <a:p>
            <a:pPr lvl="1" marL="1200240" indent="-457200">
              <a:lnSpc>
                <a:spcPct val="80000"/>
              </a:lnSpc>
              <a:spcAft>
                <a:spcPts val="601"/>
              </a:spcAft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1200240" indent="-457200">
              <a:lnSpc>
                <a:spcPct val="80000"/>
              </a:lnSpc>
              <a:spcAft>
                <a:spcPts val="601"/>
              </a:spcAft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Total $653M, GCF $133M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Aft>
                <a:spcPts val="601"/>
              </a:spcAft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c3c3c"/>
                </a:solidFill>
                <a:latin typeface="Arial"/>
              </a:rPr>
              <a:t>Facilidad riesgo compartido para PyMEs en agricultura y gestión forestal baja en carbono</a:t>
            </a:r>
            <a:endParaRPr b="0" lang="en-US" sz="2600" spc="-1" strike="noStrike">
              <a:solidFill>
                <a:srgbClr val="3c3c3c"/>
              </a:solidFill>
              <a:latin typeface="Arial"/>
            </a:endParaRPr>
          </a:p>
          <a:p>
            <a:pPr lvl="1" marL="1200240" indent="-457200">
              <a:lnSpc>
                <a:spcPct val="80000"/>
              </a:lnSpc>
              <a:spcAft>
                <a:spcPts val="601"/>
              </a:spcAft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México y Guatemala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1200240" indent="-457200">
              <a:lnSpc>
                <a:spcPct val="80000"/>
              </a:lnSpc>
              <a:spcAft>
                <a:spcPts val="601"/>
              </a:spcAft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Total ~$130M, GCF 20 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1200240" indent="-45720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(equity, prestamos y donaciones)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1200240" indent="-457200">
              <a:lnSpc>
                <a:spcPct val="80000"/>
              </a:lnSpc>
              <a:spcAft>
                <a:spcPts val="601"/>
              </a:spcAft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3BECE-49CB-4A34-96D5-60C0B40A31B8}" type="slidenum">
              <a:rPr b="0" lang="en-US" sz="1400" spc="-1" strike="noStrike">
                <a:solidFill>
                  <a:srgbClr val="87786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757" name="Picture 7" descr=""/>
          <p:cNvPicPr/>
          <p:nvPr/>
        </p:nvPicPr>
        <p:blipFill>
          <a:blip r:embed="rId1"/>
          <a:stretch/>
        </p:blipFill>
        <p:spPr>
          <a:xfrm>
            <a:off x="7130880" y="887400"/>
            <a:ext cx="1795680" cy="1143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"/>
          <p:cNvPicPr/>
          <p:nvPr/>
        </p:nvPicPr>
        <p:blipFill>
          <a:blip r:embed="rId2"/>
          <a:stretch/>
        </p:blipFill>
        <p:spPr>
          <a:xfrm>
            <a:off x="7130880" y="2949480"/>
            <a:ext cx="1795680" cy="10191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" descr=""/>
          <p:cNvPicPr/>
          <p:nvPr/>
        </p:nvPicPr>
        <p:blipFill>
          <a:blip r:embed="rId3"/>
          <a:stretch/>
        </p:blipFill>
        <p:spPr>
          <a:xfrm>
            <a:off x="7280280" y="4886280"/>
            <a:ext cx="1646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 Bold"/>
              </a:rPr>
              <a:t>Enfoque sobre la Facilidad de Energia Sostenible en el Caribe Est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pic>
        <p:nvPicPr>
          <p:cNvPr id="761" name="Picture 6" descr=""/>
          <p:cNvPicPr/>
          <p:nvPr/>
        </p:nvPicPr>
        <p:blipFill>
          <a:blip r:embed="rId1"/>
          <a:stretch/>
        </p:blipFill>
        <p:spPr>
          <a:xfrm>
            <a:off x="122400" y="2217600"/>
            <a:ext cx="3452760" cy="2479680"/>
          </a:xfrm>
          <a:prstGeom prst="rect">
            <a:avLst/>
          </a:prstGeom>
          <a:ln w="0">
            <a:noFill/>
          </a:ln>
        </p:spPr>
      </p:pic>
      <p:sp>
        <p:nvSpPr>
          <p:cNvPr id="762" name="Slide Number Placeholder 3"/>
          <p:cNvSpPr/>
          <p:nvPr/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792F9-D3F6-4601-B649-FF383E097A38}" type="slidenum">
              <a:rPr b="0" lang="en-US" sz="1400" spc="-1" strike="noStrike">
                <a:solidFill>
                  <a:srgbClr val="87786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763" name="Picture 5" descr=""/>
          <p:cNvPicPr/>
          <p:nvPr/>
        </p:nvPicPr>
        <p:blipFill>
          <a:blip r:embed="rId2"/>
          <a:stretch/>
        </p:blipFill>
        <p:spPr>
          <a:xfrm>
            <a:off x="3481560" y="1579680"/>
            <a:ext cx="5662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>
                <a:solidFill>
                  <a:srgbClr val="0070c0"/>
                </a:solidFill>
                <a:latin typeface="Arial Bold"/>
              </a:rPr>
              <a:t>Enfoque sobre la Facilidad de Agricultura Bajo en carbono y resiliente para MSMEs</a:t>
            </a:r>
            <a:br>
              <a:rPr sz="3200"/>
            </a:b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6" name="Slide Number Placeholder 3"/>
          <p:cNvSpPr/>
          <p:nvPr/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71487-2B05-4F7A-94BC-9801EE015356}" type="slidenum">
              <a:rPr b="0" lang="en-US" sz="1400" spc="-1" strike="noStrike">
                <a:solidFill>
                  <a:srgbClr val="87786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767" name="Picture 8" descr=""/>
          <p:cNvPicPr/>
          <p:nvPr/>
        </p:nvPicPr>
        <p:blipFill>
          <a:blip r:embed="rId2"/>
          <a:stretch/>
        </p:blipFill>
        <p:spPr>
          <a:xfrm>
            <a:off x="457200" y="2530440"/>
            <a:ext cx="2533680" cy="2103480"/>
          </a:xfrm>
          <a:prstGeom prst="rect">
            <a:avLst/>
          </a:prstGeom>
          <a:ln w="0">
            <a:noFill/>
          </a:ln>
        </p:spPr>
      </p:pic>
      <p:pic>
        <p:nvPicPr>
          <p:cNvPr id="768" name="Content Placeholder 3" descr=""/>
          <p:cNvPicPr/>
          <p:nvPr/>
        </p:nvPicPr>
        <p:blipFill>
          <a:blip r:embed="rId3"/>
          <a:stretch/>
        </p:blipFill>
        <p:spPr>
          <a:xfrm>
            <a:off x="2990880" y="1819440"/>
            <a:ext cx="58514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74680" y="274320"/>
            <a:ext cx="8756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 Bold"/>
              </a:rPr>
              <a:t>Ejemplos de readiness del BID para el FVC 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289400" y="1297080"/>
            <a:ext cx="4741920" cy="4991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457200" indent="-45720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</a:rPr>
              <a:t>Costa Rica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: guía para la socialización del enfoque del FVC y respaldo esfuerzo del AND para protocolo interno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</a:rPr>
              <a:t>Guatemala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: capacitación AND y otros </a:t>
            </a:r>
            <a:r>
              <a:rPr b="0" i="1" lang="es-ES_tradnl" sz="2000" spc="-1" strike="noStrike">
                <a:solidFill>
                  <a:srgbClr val="3c3c3c"/>
                </a:solidFill>
                <a:latin typeface="Arial"/>
              </a:rPr>
              <a:t>stakeholders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 sobre FVC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</a:rPr>
              <a:t>Honduras y Chile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: apoyo a entidades nacionales para el proceso de acreditación al FVC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</a:rPr>
              <a:t>Paraguay y Bolivia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: apoyo para la estructuración de una propuesta de Proyecto a nivel municipal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</a:rPr>
              <a:t>Nicaragua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: apoyo al AND para la definición de un protocolo interno y diseño de cartera 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BB1CF-2B18-4630-925C-FD5109B1276B}" type="slidenum">
              <a:rPr b="0" lang="es-ES" sz="1400" spc="-1" strike="noStrike">
                <a:solidFill>
                  <a:srgbClr val="87786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772" name="Content Placeholder 2"/>
          <p:cNvSpPr/>
          <p:nvPr/>
        </p:nvSpPr>
        <p:spPr>
          <a:xfrm>
            <a:off x="144360" y="1273320"/>
            <a:ext cx="3805200" cy="50148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3c3c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  <a:ea typeface="MS PGothic"/>
              </a:rPr>
              <a:t>Recursos del Fondo Nórdico para el Desarrollo (NDF) USD531.000 y Fondo  BID SECCI USD500,000.</a:t>
            </a: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3c3c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  <a:ea typeface="MS PGothic"/>
              </a:rPr>
              <a:t>Países Elegibles- NDF: Guatemala, El Salvador, Honduras, Nicaragua, Costa Rica y Bolivia; SECCI: Chile, Ecuador, México, Panamá, y Paraguay </a:t>
            </a: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3c3c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  <a:ea typeface="MS PGothic"/>
              </a:rPr>
              <a:t>Disponibilidad de recursos por cada País USD70.000</a:t>
            </a: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3c3c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  <a:ea typeface="MS PGothic"/>
              </a:rPr>
              <a:t>Recursos puente para el GCF readiness. </a:t>
            </a:r>
            <a:endParaRPr b="0" lang="en-US" sz="20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3c3c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Content Placeholder 1" descr=""/>
          <p:cNvPicPr/>
          <p:nvPr/>
        </p:nvPicPr>
        <p:blipFill>
          <a:blip r:embed="rId1"/>
          <a:stretch/>
        </p:blipFill>
        <p:spPr>
          <a:xfrm>
            <a:off x="304920" y="884160"/>
            <a:ext cx="8759880" cy="5267520"/>
          </a:xfrm>
          <a:prstGeom prst="rect">
            <a:avLst/>
          </a:prstGeom>
          <a:ln w="0">
            <a:noFill/>
          </a:ln>
        </p:spPr>
      </p:pic>
      <p:sp>
        <p:nvSpPr>
          <p:cNvPr id="774" name="TextBox 2"/>
          <p:cNvSpPr/>
          <p:nvPr/>
        </p:nvSpPr>
        <p:spPr>
          <a:xfrm>
            <a:off x="1017720" y="297000"/>
            <a:ext cx="70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old"/>
              </a:rPr>
              <a:t>NDC Invest </a:t>
            </a:r>
            <a:endParaRPr b="0" lang="en-US" sz="32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3000" y="149040"/>
            <a:ext cx="87408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 Bold"/>
              </a:rPr>
              <a:t>Lecciones aprendidas del BID con el FVC (i)</a:t>
            </a:r>
            <a:endParaRPr b="0" lang="en-US" sz="3200" spc="-1" strike="noStrike">
              <a:solidFill>
                <a:srgbClr val="3c3c3c"/>
              </a:solidFill>
              <a:latin typeface="Arial Bold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60200" y="1082160"/>
            <a:ext cx="8823600" cy="539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3c3c"/>
                </a:solidFill>
                <a:latin typeface="Arial"/>
              </a:rPr>
              <a:t>Proceso de aprendizaje para todos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lvl="1" marL="914400" indent="-398520">
              <a:spcAft>
                <a:spcPts val="601"/>
              </a:spcAft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Algunas reglas todavía necesitan de mas explicaciones, otras son temporáneas (i.e. apetito al riesgo, programas)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3c3c"/>
                </a:solidFill>
                <a:latin typeface="Arial"/>
              </a:rPr>
              <a:t>Costo transaccional relativamente alto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lvl="1" marL="914400" indent="-398520">
              <a:spcAft>
                <a:spcPts val="601"/>
              </a:spcAft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Promedios de 12-16 meses para llevar una propuesta a la Junta del FVC, sin diferenciar entre proyectos de pequeña y mediana/grande escala.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3c3c"/>
                </a:solidFill>
                <a:latin typeface="Arial"/>
              </a:rPr>
              <a:t>Instrumentos financieros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lvl="1" marL="914400" indent="-398520">
              <a:spcAft>
                <a:spcPts val="601"/>
              </a:spcAft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Deben ser definidos según principio de </a:t>
            </a:r>
            <a:r>
              <a:rPr b="0" i="1" lang="es-ES_tradnl" sz="2000" spc="-1" strike="noStrike">
                <a:solidFill>
                  <a:srgbClr val="3c3c3c"/>
                </a:solidFill>
                <a:latin typeface="Arial"/>
              </a:rPr>
              <a:t>mínima concesionalidad 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(mix: reembolsable/donación y publico/privado), temprano en la fase de diseño. 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3c3c"/>
                </a:solidFill>
                <a:latin typeface="Arial"/>
              </a:rPr>
              <a:t>Enfoque estratégico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lvl="1" marL="914400" indent="-398520">
              <a:spcBef>
                <a:spcPts val="499"/>
              </a:spcBef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Es </a:t>
            </a: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clave 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que la AND defina sus prioridades y aproveche de las ventajas comparativas de cada una de las Entidades Acreditadas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914400" indent="-39852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9BD07-53AC-4506-BEAE-393FFB03C509}" type="slidenum">
              <a:rPr b="0" lang="es-ES" sz="1400" spc="-1" strike="noStrike">
                <a:solidFill>
                  <a:srgbClr val="87786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3"/>
          <p:cNvSpPr/>
          <p:nvPr/>
        </p:nvSpPr>
        <p:spPr>
          <a:xfrm>
            <a:off x="457200" y="6267600"/>
            <a:ext cx="40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DD286-A699-43A1-B305-FC445B9BFF97}" type="slidenum">
              <a:rPr b="0" lang="en-US" sz="1400" spc="-1" strike="noStrike">
                <a:solidFill>
                  <a:srgbClr val="87786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779" name="Title 1"/>
          <p:cNvSpPr/>
          <p:nvPr/>
        </p:nvSpPr>
        <p:spPr>
          <a:xfrm>
            <a:off x="457200" y="149400"/>
            <a:ext cx="82296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 Bold"/>
                <a:ea typeface="Arial"/>
              </a:rPr>
              <a:t>Lecciones aprendidas con el FVC (ii)</a:t>
            </a:r>
            <a:endParaRPr b="0" lang="en-US" sz="32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60200" y="1055160"/>
            <a:ext cx="8823600" cy="539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3c3c"/>
                </a:solidFill>
                <a:latin typeface="Arial"/>
              </a:rPr>
              <a:t>Fortalecer intercambio de informaciones, sinergias y colaboración entre programas/fuentes de financiamiento climáticos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Ejemplo: informaciones generadas durante la preparación del </a:t>
            </a:r>
            <a:r>
              <a:rPr b="0" i="1" lang="es-ES_tradnl" sz="2000" spc="-1" strike="noStrike">
                <a:solidFill>
                  <a:srgbClr val="3c3c3c"/>
                </a:solidFill>
                <a:latin typeface="Arial"/>
              </a:rPr>
              <a:t>Plan de Inversiones FIP Guatemala</a:t>
            </a: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 han sido muy útiles en la preparación de proyectos agro-forestales con el GCF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3c3c"/>
                </a:solidFill>
                <a:latin typeface="Arial"/>
              </a:rPr>
              <a:t>Exponer Entidades Nacionales al FVC según un proceso de aprendizaje directo como Entidades Ejecutoras</a:t>
            </a:r>
            <a:endParaRPr b="0" lang="en-US" sz="2400" spc="-1" strike="noStrike">
              <a:solidFill>
                <a:srgbClr val="3c3c3c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2be27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c3c3c"/>
                </a:solidFill>
                <a:latin typeface="Arial"/>
              </a:rPr>
              <a:t>Ejemplo: Proyectos en Caribe con CDB (acreditada al FVC hasta $50M), en Paraguay con AFD, en El Salvador con Bandesal y Argentina con BICE. También en México y Guatemala con instituciones financieras locales. 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c3c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8:54:59Z</dcterms:created>
  <dc:creator>nialvarez</dc:creator>
  <dc:description/>
  <dc:language>en-US</dc:language>
  <cp:lastModifiedBy>Visconti, Gloria</cp:lastModifiedBy>
  <dcterms:modified xsi:type="dcterms:W3CDTF">2018-03-06T18:59:02Z</dcterms:modified>
  <cp:revision>2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F20B8F1EEEB0D49BBB8089ED6575358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